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000-CBF8-4977-8E42-A9A65BB6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767-9359-40DE-88B1-D8E7C445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364FA-FD9A-4D16-BE09-663B978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32CCA-37C4-4156-83BE-2FC033C6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7D668-E7DD-448D-9A1E-00B99C28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76016-B585-4593-B206-664D045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C7F0C-82E2-4F7E-8CEB-AF8EA32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E8012-ADE3-43FC-9310-5F481B7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C5DB3-A13C-4BDD-8728-217F4FB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14EAD-63C1-4C12-A075-98991539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41689-F822-4390-B867-42E01FA0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93E94-2E72-473B-AED1-CE07004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29D-D3A3-4D44-B9E8-63BB17AB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8543A-C6FE-4E42-8D99-FFCFD9E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4B13F-6B2E-4F22-A73D-7362FB57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9FBC3-38C2-4516-8D6F-DAB9B4E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D3E17-66C9-4DDE-A891-B1E2380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7003C-D52E-4EA5-809C-93E8997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A2C3-7A9A-4645-AD13-4AB3D8E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DB4FF-ABBB-4EB3-A28D-0642E53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D12A1-CD8C-4A28-AA2C-E254BA3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AFCB7-8EE8-4AB9-87D1-E2DCBE33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E3418-78A4-44D0-A6A7-2A2F343C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F5F-C819-41CD-BE83-2C3591CD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15CBC-5323-4427-9F56-401424E5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7083-2A98-45DC-B00F-0F13FB87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36A7C-26F1-4CA5-B105-4041721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B299A-3E03-4EBD-9EE1-060CC570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316AC-8FDC-495D-981F-FDF4418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2451C-439A-4425-A418-9710A342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C23E7-117C-4FA8-A2CB-35BCAFE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13396-4678-4B2F-8FE3-A13AD732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B3EA9-7A2F-4594-A672-92E0F07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459AF-190B-4458-823F-838EE06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DA30-D301-4D21-9132-AFE69E6D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F79B-13A3-4AB0-BE8F-90F0CF1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F7831-5ACF-48D5-87E0-4EE268E1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ECDA9-F215-431F-A2D3-88172F49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DE50E-00E1-476A-8A44-FE1FA5CE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A3772-468E-48CE-8B1B-F2B01FAE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EDADB-9475-4E18-8034-DC509544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4B7BD-F81F-44EE-90D5-F0F39B60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5CA2-1731-4916-90AF-D7254497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B6460-4E16-4297-8D2D-FEFC14B9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1CA19-0929-4EB6-B97F-10AFD803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736-FBF7-43F9-AFE5-4FA7EC6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59280-870D-4D26-820C-58DA4B04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330FA-2934-4354-B441-FBAF7E7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D4920-EF62-4164-A409-19470F2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9BE58-DCEE-463F-AEFF-16E050F7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822C2-CA6F-42E2-8A09-A6B419F7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840A-AC8E-40F8-A5EF-E27940C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562C-7903-40F6-AD27-DF43BA73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3501-80CF-48CC-B0D0-750C621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FCC7-91CE-4FC9-9F52-192DE335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4745-4148-41C3-A28A-2EB156B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01A-8675-456C-B0C7-0DC7C904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823-02C3-4752-BD87-FA9267A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EAB8-1EDF-40C4-8497-96CC9DB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57F7-64AB-47A3-A644-92E8D5F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5A23-BB06-4837-8F5F-DAC7C0E9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1AB-35F7-465D-8878-7AA7904F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39E8-C4C6-4557-AEA1-0F86BD67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CCE3-857A-44C6-982F-57176C80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91CD-C5EB-41F9-817E-E4CD15B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26C3-A2E0-46FF-AF20-9D91702F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1502-097E-4276-B562-2BCD3EA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6A4-1819-49F5-B6B1-94396A6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9961-BE9E-429B-A3AB-25B2501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F2CE-9205-4B22-BBE0-A7B970FE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BE7D-EEBD-4039-AB23-623F202B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D1A2-DDE9-4E37-BE23-027111A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DA87-1ACC-492F-96B5-35E717A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5994-8469-43B1-83C3-775B6B16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D05D-694C-471B-952C-D3476B81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92A5-A265-431B-B427-B20F2A32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DE77-AF04-4395-917F-5C32523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C8EB-3C80-4F62-9239-C42E0A1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00D-4301-461D-A368-4FBB9F8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3605-3695-4124-9844-019B054C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3BFD-9874-4A76-999C-CE6B2B55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151A-4D13-4D05-8C39-FB23C39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E2787-D27F-4DF8-93EF-AF5CFBC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6BED-73AC-43C2-9FD6-36045F3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26C2-A6BB-4019-8DC5-5F57A19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F581-EBDD-4740-B3B8-73C7FD84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65FD-7A2D-4E79-B58F-885AEB99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D760-FBAC-451C-A421-2EB258E3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9433-C51B-4C01-A324-37277B43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860-E462-48EC-934F-874B6DE8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D64A-CEF2-4B87-A9C1-EBEBC2A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3FBA-701C-4445-87B4-C74C4839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5260-CE64-4550-ACAA-980EB134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4646-160D-4EC8-8BEE-6AC021E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D07B-E710-41E4-AB55-37ACFF1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D321-16B5-4A49-A789-1F081E6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E960-1099-4964-948F-E13CEB9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6F8D-8BD3-4FAF-AB2C-3CDA837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C11E-E1BF-4A23-BA7F-E5B216B4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B726-DF39-4020-BC79-B170D2A2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C46-1323-488B-B556-EC3E1F70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8A77-7568-424B-A1F6-47B08231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EB16-6AA2-4C89-8282-92C12BC3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F136-E70A-4506-BD6D-EBECCCE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75FE-67B7-4B96-BC2E-8DD446B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EB0E-8DE8-40CA-A095-F4C1810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43F9-B0F8-446D-8685-5A21F8C7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8859-BBDC-4769-9691-4158146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9A74-07FE-459E-B736-2DE8762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F9CCE-4DFE-444A-A787-F4270E8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DDC7-8608-4086-B25B-903FCA5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B3D-8364-44CE-9748-79863A4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54117-A9DF-47D4-93B5-05349B2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3766-9811-4CDF-904B-0EB8D1D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7FCC-4339-4BE7-8BC8-99A4D648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C28D1-3A87-4D04-9963-4573B09D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4FDE9-BBCB-4FAF-8304-7479876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F457-7B6E-4AF6-8419-E7EB7CB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5963-BDBA-4C67-8AC5-D3B6DD7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16A9-D5C0-413F-909E-B8E03BB5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CFFE-10AD-405D-A39D-F1B99FB8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DA284-7BE5-471D-93A5-075AC2E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718-7C19-4B1F-8382-3B5A992C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4766-1B6C-42C6-87A1-569AFAF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2DBB-CC70-4525-950F-3D3A8C4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A377-D74E-4034-8C16-70774A6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111DA-18B2-4868-927A-3DC4235E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C974-3ED7-4ECB-9103-E62B2A10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535E-C04C-487F-93F4-02C44744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5B9E0-30D3-4311-A7F1-7B7A785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A743-BB03-420A-B1D6-1DC09C6F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A31DF-2EAE-4E9E-90CB-7DD207D1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6307-BFB2-4043-9058-D55BB6B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FF7-E0ED-452C-92AA-E028A5E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D579A-2099-4823-B58F-2FAE362E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86A6-8312-4411-9ECA-F449A1B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CF760-A456-4417-BE69-D5E9F35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E675E-3746-4D53-9F8B-9FEC31C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DD0A4-DA7C-4673-AEA5-7705522C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AEE7C-7E82-4380-87FA-CAD91D2E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B0866-080C-4072-BF05-D5F6B77F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FED61-6E67-4AF6-A7BB-DB6C5536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52101-6426-4AAB-A3CF-0BD0886F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388A1-1991-42A6-8858-CCB9D7A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6A61-27C4-405C-8028-A83F4EEDF1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7DFD-94A8-46F4-9E6B-A3C02C8C6E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0FC1-7AAC-4443-88F5-110CEC2FBE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5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8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8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8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ECD6-CCC2-4AE5-8A2B-94413EE316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5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61A-0E78-4BC9-B909-CF74EF7D52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2BC-E711-4C7F-8C27-1128134051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6277-0C3A-4704-B8C2-0E73DFCBA9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8AED-20C3-46DD-8F3E-33A9814CD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91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3394-C03C-4F75-A6E0-208FDCE50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FCD-F251-41B4-A304-72F68F9A0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314-36F8-474D-8AA5-4881F9B7C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6D5E-B833-4045-8F91-5F955A5FF3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94;" TargetMode="External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4;&#1091;&#1084;&#1086;&#1074;&#1086;&#1077;_&#1086;&#1087;&#1100;&#1103;&#1085;&#1077;&#1085;&#1080;&#1077;&amp;action=edit&amp;redlink=1" TargetMode="External"/><Relationship Id="rId2" Type="http://schemas.openxmlformats.org/officeDocument/2006/relationships/hyperlink" Target="http://ru.wikipedia.org/wiki/&#1040;&#1083;&#1082;&#1086;&#1075;&#1086;&#1083;&#1100;&#1085;&#1086;&#1077;_&#1086;&#1087;&#1100;&#1103;&#1085;&#1077;&#1085;&#1080;&#1077;" TargetMode="External"/><Relationship Id="rId3" Type="http://schemas.openxmlformats.org/officeDocument/2006/relationships/hyperlink" Target="http://ru.wikipedia.org/w/index.php?title=&#1053;&#1072;&#1088;&#1082;&#1086;&#1090;&#1080;&#1095;&#1077;&#1089;&#1082;&#1086;&#1077;_&#1086;&#1087;&#1100;&#1103;&#1085;&#1077;&#1085;&#1080;&#1077;&amp;action=edit&amp;redlink=1" TargetMode="External"/><Relationship Id="rId4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Как влияет шум на здоровье людей?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естелесная Виктор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а 11 «А»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ыктывкар,2009г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Цель данного исследования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Monotype Corsiva"/>
              </a:rPr>
              <a:t>   </a:t>
            </a:r>
            <a:r>
              <a:rPr b="0" lang="en-US" sz="4400" spc="-1" strike="noStrike">
                <a:solidFill>
                  <a:srgbClr val="999900"/>
                </a:solidFill>
                <a:latin typeface="Monotype Corsiva"/>
              </a:rPr>
              <a:t>Выяснить как влияет шумовое загрязнение на живой организ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877080" y="1989000"/>
            <a:ext cx="154620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знакомиться с последствиями шумового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мотреть меры борьбы с данным видом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аибольшее раздражение вызывает шум в диапазоне частот -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22080" y="2652480"/>
            <a:ext cx="45068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0÷5000 </a:t>
            </a: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Гц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и шуме на уровне более 110 дБ у человека возникает </a:t>
            </a:r>
            <a:r>
              <a:rPr b="0" lang="en-US" sz="2900" spc="-1" strike="noStrike" u="sng">
                <a:solidFill>
                  <a:srgbClr val="99cc00"/>
                </a:solidFill>
                <a:uFillTx/>
                <a:latin typeface="Arial Black"/>
                <a:hlinkClick r:id="rId1"/>
              </a:rPr>
              <a:t>шумовое опьянение</a:t>
            </a: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 Black"/>
              </a:rPr>
              <a:t>, по субъективным ощущениям аналогичное </a:t>
            </a:r>
            <a:r>
              <a:rPr b="0" lang="en-US" sz="2900" spc="-1" strike="noStrike" u="sng">
                <a:solidFill>
                  <a:srgbClr val="99cc00"/>
                </a:solidFill>
                <a:uFillTx/>
                <a:latin typeface="Arial Black"/>
                <a:hlinkClick r:id="rId2"/>
              </a:rPr>
              <a:t>алкогольному</a:t>
            </a: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 Black"/>
              </a:rPr>
              <a:t> или </a:t>
            </a:r>
            <a:r>
              <a:rPr b="0" lang="en-US" sz="2900" spc="-1" strike="noStrike" u="sng">
                <a:solidFill>
                  <a:srgbClr val="99cc00"/>
                </a:solidFill>
                <a:uFillTx/>
                <a:latin typeface="Arial Black"/>
                <a:hlinkClick r:id="rId3"/>
              </a:rPr>
              <a:t>наркотическому</a:t>
            </a: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 Black"/>
              </a:rPr>
              <a:t>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и шуме на уровне 145 дБ у человека происходит разрыв барабанных перепонок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меньшение и контроль за шумо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настоящее время разработано много методик, позволяющих уменьшить или устранить некоторые шум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Шумовое загрязнение от какого-либо объекта можно до некоторой степени уменьшить, если на этапе разработки проекта этого объекта смоделировать с учётом различных внешних условий (например, топология и погодные условия местности) характер шумов, которые будут возникать и затем отыскать пути их устранения или хотя бы уменьшения. В настоящее время этот способ стал гораздо проще и доступнее за счёт развития электронновычислительной техники. Это наиболее дешёвый и рациональный способ снижения шумов, использующийся, например, при строительстве железных дорог в городских района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некоторых случаях рациональнее на данный момент бороться не с причиной, а со следствием. Например, проблему шумового загрязнения жилых помещений можно значительно уменьшить за счёт их звукоизоляции (установка шумонепроницаемых окон и т.п.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http://ru.wikipedia.org/wiki/%D0%A8%D1%83%D0%BC%D0%BE%D0%B2%D0%BE%D0%B5_%D0%B7%D0%B0%D0%B3%D1%80%D1%8F%D0%B7%D0%BD%D0%B5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8:06:09Z</dcterms:created>
  <dc:creator>User</dc:creator>
  <dc:description/>
  <dc:language>en-US</dc:language>
  <cp:lastModifiedBy>User</cp:lastModifiedBy>
  <dcterms:modified xsi:type="dcterms:W3CDTF">2009-11-23T12:38:11Z</dcterms:modified>
  <cp:revision>3</cp:revision>
  <dc:subject/>
  <dc:title> Как влияет шум на здоровье людей?</dc:title>
</cp:coreProperties>
</file>